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B691-3D6E-428A-A08E-E38962C9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1EEA-C49A-4EDB-905C-B26027BE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993F-62A7-47C1-874C-7B3F710C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027B3-6747-4FD0-BD9E-379792C7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B424-3F79-49F8-A0DC-8327582E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6EF5-1DAB-4E00-8DC2-7C059253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3D36-C484-4E37-9FC7-A546E29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1C65-3EA3-4EAD-90FE-B7871F1F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DD8C-1983-46FA-84AE-8BFC67AC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148-F6DB-4687-9239-F92FC251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AE97-6C52-4A06-A3F3-4B4D4680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3EB4-5D62-41D5-96B5-08489930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7034-F0C2-46C0-AAB8-50308598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27A7-8A1B-4A8F-9359-3937450D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8324-2C09-476E-8B1C-2379E16B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9D85-C61C-4E43-8433-5C6851A3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7482-D103-48A5-94BA-88E40C1B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27A4-A235-4466-9948-3103B70D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A16A-E875-49DE-ACCC-DD86BAB2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AE77-B9EB-43AB-923D-07F6BCB0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074C-2BB4-486F-A92C-57AF701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9717-D1E4-4B10-9166-A328FCED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B72E-DD22-4020-9DB2-FA580853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4AF8-15CB-4122-BC0B-228C8A24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482-2BD6-4A4B-924A-A579128B6F5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792A-5781-4CF4-95D4-537EDDE3EE4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3089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6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чудно е Божието Слово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удива четем ние та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чудното дело Христово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р изкупителен на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692640"/>
            <a:ext cx="93250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ярвай в таз вест най-пречудн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купен си ти, оправда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ярвай в таз обич безкрай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воя Спасител преда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6736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те при този Спасител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й скръбни и страдни душ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радостна вест е носител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ежно Той знай да теш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81080" y="722880"/>
            <a:ext cx="932508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ярвай в таз вест най-пречудн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купен си ти, оправда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ярвай в таз обич безкрай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воя Спасител преда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1092240"/>
            <a:ext cx="932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бежище такова ням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йде по целий свят за нас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гледайте земна измам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чуйте спасителен гл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692640"/>
            <a:ext cx="93250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ярвай в таз вест най-пречудн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купен си ти, оправда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ярвай в таз обич безкрай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воя Спасител преда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31T09:57:40Z</dcterms:modified>
  <cp:revision>18</cp:revision>
  <dc:subject/>
  <dc:title>Slide 1</dc:title>
</cp:coreProperties>
</file>